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1430000" cy="9144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7BA1-91CD-4842-A51D-4BAFE544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9715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57160" y="5507640"/>
            <a:ext cx="9715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AFFB-4231-4CD8-81B9-5313EB8D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71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8359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51B5-DC99-43FA-87B7-21E54EB2D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42160" y="264168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426800" y="264168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57160" y="550764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42160" y="550764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426800" y="550764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59CB-34EB-427B-83B4-54AC65B8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8550-1380-40E9-93DB-3050BBC4F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57160" y="2641680"/>
            <a:ext cx="97156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600F-72D5-42BF-ABC0-2F582C36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9715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7968-B425-4AED-9101-32E7A7D7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2D26-6678-44D3-B0C2-89BD72B0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1004-3327-420B-ADDA-C3CA89B8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533160"/>
            <a:ext cx="97156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4725-210F-40E1-8694-D3095D4F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571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8AC9-ED44-4E0B-AE70-6F5A43F6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57160" y="2641680"/>
            <a:ext cx="97156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F48F-F5BF-4151-BEA8-22775694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359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EA41-9493-48B0-B7BB-3C8B736C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57160" y="5507640"/>
            <a:ext cx="9715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FE9C-21C9-4603-A9E3-05CB6212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9715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57160" y="5507640"/>
            <a:ext cx="9715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D55F-1949-48C7-A3BC-23D2163C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571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8359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B21C-9892-494A-A744-98CC788C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42160" y="264168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26800" y="264168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57160" y="550764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142160" y="550764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426800" y="550764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A456-6B91-43D8-88F3-CD741918B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9715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AEB7-0372-4A1F-9273-9D628F11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19CE-218D-43CE-AAFF-329E350C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EFC4-049E-471B-8F04-34C68950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533160"/>
            <a:ext cx="97156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CF77-1DC3-456D-92C8-3E07C03C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571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A5A1-F83E-45EE-A464-78A45C93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8359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0D6F-E422-4F52-AF9E-564AC674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57160" y="5507640"/>
            <a:ext cx="9715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DCB6-9238-4780-93D7-FB68B554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512360" y="1440"/>
            <a:ext cx="21927240" cy="18255240"/>
            <a:chOff x="-10512360" y="1440"/>
            <a:chExt cx="21927240" cy="18255240"/>
          </a:xfrm>
        </p:grpSpPr>
        <p:sp>
          <p:nvSpPr>
            <p:cNvPr id="1" name=""/>
            <p:cNvSpPr/>
            <p:nvPr/>
          </p:nvSpPr>
          <p:spPr>
            <a:xfrm>
              <a:off x="6734520" y="2113920"/>
              <a:ext cx="4680360" cy="701532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10512360" y="1440"/>
              <a:ext cx="21024720" cy="1825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856800" y="8331120"/>
            <a:ext cx="2381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905280" y="8331120"/>
            <a:ext cx="36194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191080" y="8331120"/>
            <a:ext cx="2381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B153-7E8A-4A64-9B74-7C626FD64131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857160" y="2641680"/>
            <a:ext cx="9715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701640" y="1947240"/>
            <a:ext cx="21131280" cy="14392800"/>
            <a:chOff x="-9701640" y="1947240"/>
            <a:chExt cx="21131280" cy="14392800"/>
          </a:xfrm>
        </p:grpSpPr>
        <p:sp>
          <p:nvSpPr>
            <p:cNvPr id="45" name=""/>
            <p:cNvSpPr/>
            <p:nvPr/>
          </p:nvSpPr>
          <p:spPr>
            <a:xfrm>
              <a:off x="4089240" y="3612600"/>
              <a:ext cx="7340400" cy="553104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701640" y="1947240"/>
              <a:ext cx="16815240" cy="1439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17480" y="1015920"/>
            <a:ext cx="971532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856800" y="8331120"/>
            <a:ext cx="2381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905280" y="8331120"/>
            <a:ext cx="36194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8191080" y="8331120"/>
            <a:ext cx="2381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0725-1818-4BA9-BDFE-02C13BE0F35C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2110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Staatsaufbau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6524640"/>
            <a:ext cx="7162920" cy="209700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Kindergärt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Grund- und Hauptschu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Wasser- und Wärmeversorgu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Abwasserbeseitigu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Feuerweh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Schwimmbä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Sportplätze und -hal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6524640"/>
            <a:ext cx="2971800" cy="209700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GEMEIND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4721400"/>
            <a:ext cx="7162920" cy="1803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Krankenhä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Sozial- und Jugendhilf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Abfallbeseitigu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Kreisstraß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berufliche Schu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Sonderschu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4721400"/>
            <a:ext cx="2971800" cy="1803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LANDKREI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2917800"/>
            <a:ext cx="7162920" cy="1803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Kultu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Anstellung der Lehrer (Landesbeamte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Lehrplä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Hochschu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Gerich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Polize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917800"/>
            <a:ext cx="2895480" cy="1803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LÄND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1701720"/>
            <a:ext cx="7162920" cy="12160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Auswärtige Angelegenheit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Verteidigungsaufgab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Bundesfernstraß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Zo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1701720"/>
            <a:ext cx="2971800" cy="12160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BU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1295280"/>
            <a:ext cx="9982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Tahoma"/>
              </a:rPr>
              <a:t>Zuständigkeiten (Beispiele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295280"/>
            <a:ext cx="4114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1295280"/>
            <a:ext cx="100584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8621640"/>
            <a:ext cx="100584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295280"/>
            <a:ext cx="0" cy="7326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820520" y="1295280"/>
            <a:ext cx="0" cy="7326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1701720"/>
            <a:ext cx="10058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2917800"/>
            <a:ext cx="10058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4721400"/>
            <a:ext cx="10058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6513480"/>
            <a:ext cx="10058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9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4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9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Die Behörde des Landkrei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23600" y="3124080"/>
            <a:ext cx="4762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66"/>
                </a:solidFill>
                <a:latin typeface="Arial"/>
              </a:rPr>
              <a:t>Kommunaler Tei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Der Landkreis fördert das Wohl seiner Einwohner und unterstützt die kreisangehörigen Gemeinden in der Erfüllung ihrer Aufgaben. 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Rechtsgrundlage: §§ 1 und 2 der LK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286000"/>
            <a:ext cx="105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ff33"/>
                </a:solidFill>
                <a:latin typeface="Tahoma"/>
              </a:rPr>
              <a:t>Das Landratsamt ist eine Körperschaft des öffentlichen Rechts, die intern aus zwei Teilen besteh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86680" y="3124080"/>
            <a:ext cx="47624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66"/>
                </a:solidFill>
                <a:latin typeface="Arial"/>
              </a:rPr>
              <a:t>Staatlicher Tei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Das Landratsamt als untere Verwaltungsbehörde ist auch eine staatliche Behörd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Staatliche Behörden (Ministerien oder Regierungspräsidium) haben staatliche Aufgaben (z.B. Rechtsaufsicht über die Behörde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Bei Aufgaben des Bundes kommt der Bund für die entstandenen Kosten auf. Rechtsgrundlage: Landesverwaltungsgeset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75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75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8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57160" y="152280"/>
            <a:ext cx="97156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Aufgaben des Landratsam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496960" y="2286000"/>
          <a:ext cx="658836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6960" y="2286000"/>
                    <a:ext cx="65883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7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7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8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1814400" y="2355840"/>
          <a:ext cx="7669440" cy="609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4400" y="2355840"/>
                    <a:ext cx="766944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So funktioniert der Landkre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29240" y="272736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Vorsitz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09880" y="236232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wähl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81520" y="318456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Vorsitz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72120" y="2955960"/>
            <a:ext cx="60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leit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3124080"/>
            <a:ext cx="761760" cy="533520"/>
          </a:xfrm>
          <a:custGeom>
            <a:avLst/>
            <a:gdLst>
              <a:gd name="textAreaLeft" fmla="*/ 0 w 761760"/>
              <a:gd name="textAreaRight" fmla="*/ 762120 w 7617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34290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2590920"/>
            <a:ext cx="1523880" cy="228600"/>
          </a:xfrm>
          <a:prstGeom prst="rightArrow">
            <a:avLst>
              <a:gd name="adj1" fmla="val 50000"/>
              <a:gd name="adj2" fmla="val 166654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5334120" y="3184560"/>
            <a:ext cx="457200" cy="457200"/>
          </a:xfrm>
          <a:custGeom>
            <a:avLst/>
            <a:gdLst>
              <a:gd name="textAreaLeft" fmla="*/ 152280 w 457200"/>
              <a:gd name="textAreaRight" fmla="*/ 326520 w 457200"/>
              <a:gd name="textAreaTop" fmla="*/ 283320 h 457200"/>
              <a:gd name="textAreaBottom" fmla="*/ 3268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9542"/>
                </a:moveTo>
                <a:lnTo>
                  <a:pt x="13371" y="19542"/>
                </a:lnTo>
                <a:lnTo>
                  <a:pt x="13371" y="7200"/>
                </a:lnTo>
                <a:lnTo>
                  <a:pt x="7200" y="7200"/>
                </a:lnTo>
                <a:lnTo>
                  <a:pt x="14400" y="0"/>
                </a:lnTo>
                <a:lnTo>
                  <a:pt x="21600" y="7200"/>
                </a:lnTo>
                <a:lnTo>
                  <a:pt x="15429" y="7200"/>
                </a:lnTo>
                <a:lnTo>
                  <a:pt x="154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2955960"/>
            <a:ext cx="1524240" cy="152280"/>
          </a:xfrm>
          <a:prstGeom prst="leftArrow">
            <a:avLst>
              <a:gd name="adj1" fmla="val 50000"/>
              <a:gd name="adj2" fmla="val 250236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7314840" y="3009960"/>
            <a:ext cx="723960" cy="723960"/>
          </a:xfrm>
          <a:custGeom>
            <a:avLst/>
            <a:gdLst>
              <a:gd name="textAreaLeft" fmla="*/ 0 w 723960"/>
              <a:gd name="textAreaRight" fmla="*/ 724320 w 72396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66880" y="342900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wähl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85440" y="318456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wähl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95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45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95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45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950"/>
                            </p:stCondLst>
                            <p:childTnLst>
                              <p:par>
                                <p:cTn id="1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45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95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45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950"/>
                            </p:stCondLst>
                            <p:childTnLst>
                              <p:par>
                                <p:cTn id="1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45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950"/>
                            </p:stCondLst>
                            <p:childTnLst>
                              <p:par>
                                <p:cTn id="1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745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795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3T18:54:09Z</dcterms:created>
  <dc:creator>Waldemar Friedrich</dc:creator>
  <dc:description/>
  <dc:language>en-US</dc:language>
  <cp:lastModifiedBy>Hörstmann</cp:lastModifiedBy>
  <cp:lastPrinted>2004-11-19T10:17:27Z</cp:lastPrinted>
  <dcterms:modified xsi:type="dcterms:W3CDTF">2007-01-21T11:57:54Z</dcterms:modified>
  <cp:revision>110</cp:revision>
  <dc:subject/>
  <dc:title>Das Landratsamt Enzkreis</dc:title>
</cp:coreProperties>
</file>